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90E2-C963-40DB-ACF4-C7976626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3FAA-6905-4AAA-B750-1CE0EBCE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3E9-14B9-4D55-BFD1-1C451787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5F2F-429A-460E-8C14-216809A3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5D66-A810-4ED3-9A12-8921432C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6F87-B31D-460A-965F-CDD606D0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5AC5-7C49-4D29-BEB8-98BC394A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4842-FDA5-4CD7-965A-BA2B2037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31E8-2B73-48A4-BD95-B76E6E75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94C2-7B7B-4A84-B6F1-36F8ADE1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2474-62E0-4DC8-B494-2B86CF65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A7B9-5285-4A90-B001-65EDBD90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2DE0-05D4-4279-BC2A-6527D88F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95F7-716D-4867-9CEA-65111336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C647-55E8-4535-B6DE-7F6D7D88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2179-07E0-4B9F-B16C-7AD374F9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3452-7578-47A3-B6A3-9EFF2A04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9C891-C14F-48C6-A2CD-0FF9832F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FEDFC-75B5-43B6-B13E-5D8E2431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083C2-0BD7-43B3-85F5-B0761EEA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77B2F-B673-4935-91C3-0EC8C590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606D7-47F9-4F0C-B9AD-57A25BBD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DEC9-3C82-4D78-B009-272D06FF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B7297-F9F5-4C19-83B0-4B0F5A41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2EEC0-BF5E-46EA-8955-9C8AC5EA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4C8D4-50B5-4123-A8E2-8C9FF4C7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C4DD2-7FC8-4C8D-ABDE-6D390B6E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0F83B-7AB5-4068-B8F5-15A3F209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3BEC4-7381-4BC0-97F0-4B8D9FB5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65EAA-023D-45AE-9EF3-E11CD756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38854-8438-4CEC-BBBC-690D03F9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33673-0B3C-436F-B130-48BBCA83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23A04-6DCC-4DC2-BD92-976AE880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E05F-27B2-42BC-9557-159AB180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F5515-5000-408B-93E8-D7938F5D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75E0D-0964-4FAD-B077-C71183F9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C620B-8FAD-41C0-A494-84FE8456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5B76D-A729-4171-BFEC-6931AF30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146B8-F687-406C-8D85-E123D143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3D828-7061-4F6F-9CCA-2FFC7E1C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BB252-ECCB-498E-9841-4929F4FF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862D3-D3AA-42D0-8BC2-3E9E81B7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08422-5E65-4B3B-9836-90C6A9C9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C1282-6308-45B3-8A96-809F20F1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F4E-D2D8-406D-BE05-AC02D229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1BB67-FF0C-4892-926B-AAA53549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320E4-DEF5-4C7A-A56B-C1D822C2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93E86-F2A5-4497-8263-4CFD6751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6314E-CD1A-4545-A4AC-511326F1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0B8F9-BC2A-47DD-9182-57EBFE4F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9D027-D242-4836-B2F6-02D8CAA1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D1CA7-2188-4478-A84F-F0F83633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F7829-61A8-4664-94CA-5A8A14DF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CF635-235C-4BFC-9FFC-56234330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F5CCF-64BB-4572-A920-5CA31223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4DC-D6E3-4764-9773-BB4B9CC0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0FF6C-0494-45D9-AECA-238B333E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15BF6-07C7-4D84-B15A-8A463E39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72F4C-AADC-4D63-BA5B-EF35E177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948B3-A2F2-446D-AF6D-6A1BAF1B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E0728-22D0-4018-A4A6-BB493979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A8BE9-9150-410F-A565-159A9C21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7AC50-5A0D-4EE9-929D-BEBF5CB9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C1078-554D-41F2-9A7E-62B47CD4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DC59D-86FF-49E6-B087-EAD18AD8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9E235-FC71-4987-9AD6-9DAF3BAE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5EA-7B42-419E-B182-B55F5CAC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F1AA5-A279-4138-9433-35EC2F3D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2213B-FD99-47B3-8B11-A8BFAFE7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EA037-529D-44A9-B034-3A853111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74ACF-8EB9-4E18-81BE-024C6C3F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08457-07A1-4A0F-A5BB-5567449F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F81B1-1F03-455F-A675-88B6A1CE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A1187-A596-4FD4-B9B3-01185A01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6AB47-19DC-42E7-8569-08A0BACC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21433-EB0A-461F-89A7-DD1A3653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1AA41-0C4E-4082-9FC8-596BCE34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D20-48A8-4775-9717-F62C3F5B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8E6F2-2837-4153-A2D2-17D52C92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2D191-5371-43F8-B253-8C229701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69996-D723-420E-BE0C-31EDB06A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31A3B-7348-4145-A2D1-59571886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6B39C-661C-4BEC-B6DB-FE91D3FB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5DC-9EAA-4C04-8BB0-95996069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1DCE-329A-4359-A398-F2F7D7D5A490}" type="slidenum">
              <a:rPr b="0" lang="en-N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715A-CA9B-48B4-8938-BDA84DC26392}" type="slidenum">
              <a:rPr b="0" lang="en-NZ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5CFF-7053-4C7B-ABED-1B36320C80A6}" type="slidenum">
              <a:rPr b="0" lang="en-N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1687-E058-43B5-ABA1-3E3A18E48E1D}" type="slidenum">
              <a:rPr b="0" lang="en-NZ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51EE-BCCA-471E-9DD6-4E1DF5EECA35}" type="slidenum">
              <a:rPr b="0" lang="en-N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9CEF-0148-4B59-A023-0EFFD7184746}" type="slidenum">
              <a:rPr b="0" lang="en-NZ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48A2-819A-45DF-8CE7-6D74A43960D6}" type="slidenum">
              <a:rPr b="0" lang="en-NZ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1000080" y="-1341360"/>
            <a:ext cx="7862760" cy="641340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-158760" y="5499000"/>
            <a:ext cx="6566040" cy="1365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big%20tudor%20house.jpg"/>
          <p:cNvPicPr/>
          <p:nvPr/>
        </p:nvPicPr>
        <p:blipFill>
          <a:blip r:embed="rId3"/>
          <a:stretch/>
        </p:blipFill>
        <p:spPr>
          <a:xfrm>
            <a:off x="803160" y="538200"/>
            <a:ext cx="2676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950760" y="1500120"/>
            <a:ext cx="72424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0720" y="-324000"/>
            <a:ext cx="8339400" cy="19940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"/>
          <p:cNvPicPr/>
          <p:nvPr/>
        </p:nvPicPr>
        <p:blipFill>
          <a:blip r:embed="rId2"/>
          <a:stretch/>
        </p:blipFill>
        <p:spPr>
          <a:xfrm>
            <a:off x="914400" y="188280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6705720" cy="20480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"/>
          <p:cNvPicPr/>
          <p:nvPr/>
        </p:nvPicPr>
        <p:blipFill>
          <a:blip r:embed="rId2"/>
          <a:stretch/>
        </p:blipFill>
        <p:spPr>
          <a:xfrm>
            <a:off x="857160" y="185724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231840" y="-73080"/>
            <a:ext cx="8461440" cy="17431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914400" y="188280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231840" y="-92160"/>
            <a:ext cx="8461440" cy="1933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714240" y="1928880"/>
            <a:ext cx="731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262080" y="768240"/>
            <a:ext cx="8345520" cy="14814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"/>
          <p:cNvPicPr/>
          <p:nvPr/>
        </p:nvPicPr>
        <p:blipFill>
          <a:blip r:embed="rId2"/>
          <a:stretch/>
        </p:blipFill>
        <p:spPr>
          <a:xfrm>
            <a:off x="1214280" y="2428920"/>
            <a:ext cx="6072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36:11Z</dcterms:created>
  <dc:creator>Diocesan School for Girls</dc:creator>
  <dc:description/>
  <dc:language>en-US</dc:language>
  <cp:lastModifiedBy>Diocesan School for Girls</cp:lastModifiedBy>
  <dcterms:modified xsi:type="dcterms:W3CDTF">2009-09-15T00:00:01Z</dcterms:modified>
  <cp:revision>42</cp:revision>
  <dc:subject/>
  <dc:title>Slide 1</dc:title>
</cp:coreProperties>
</file>